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301CD-07B9-4E31-A78F-D5875E64B2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916F8-F2ED-4DEA-9375-53BC7BD26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68190-305B-4E8B-A59A-84F2A76110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5FAB6-4924-4972-88F9-0BA12B89EE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D9188-FA4E-44F9-AF8D-ADB642CE49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8AE72-517E-471D-8D56-ED005992C5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43423-4E10-43D8-9A8A-9247F750630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B6D22-2607-4112-9384-70110EF68D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CE09-7AF5-4E13-8996-048FE390355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8F966-DD3B-415D-89D5-BD489FB615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F62F6-7AF5-449D-B71F-21E6652B348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7756D-8A38-4EE2-9A0E-B255352873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76EC-6A8C-42A6-998E-BEF3E71CEF5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5C150-89A0-4EC0-8BDF-3D06A570D4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4A51-7424-4000-916D-FF93E70809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B2962-E581-44D0-82A1-141C82EB1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AE70D-73A0-424C-A3EB-9A348F08A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995E-A3D5-407E-9E38-61A95E4A6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86423-5F2C-4D0D-86BF-9C6C12F0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87FB-6E8D-46E9-A80C-FB78030D3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291C9-1209-4C0D-ADE1-DA3018844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702A-C682-4AE5-896A-2312D6B4C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9F18-36A9-475D-9EF8-40F7E8591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252BA-4151-4584-8182-52E58968F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A90E-CAE9-4635-9E2B-C0005B8E5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7572-E2AD-44C0-85F3-E953A211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AFA4-7EDD-4C01-B03C-63D400422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83D88-49FC-4A6E-B3EA-BA8E8E69F2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</a:t>
            </a:r>
            <a:br>
              <a:rPr sz="4000"/>
            </a:br>
            <a:r>
              <a:rPr b="0" lang="sr-CS" sz="4000" spc="-1" strike="noStrike">
                <a:solidFill>
                  <a:srgbClr val="000000"/>
                </a:solidFill>
                <a:latin typeface="Arial"/>
                <a:ea typeface="Arial"/>
              </a:rPr>
              <a:t>Циклус будност-спавање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124000" y="5319360"/>
            <a:ext cx="7020000" cy="63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Доц. др Иван Срејови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-27000"/>
            <a:ext cx="1362240" cy="18572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1"/>
          <p:cNvSpPr/>
          <p:nvPr/>
        </p:nvSpPr>
        <p:spPr>
          <a:xfrm>
            <a:off x="3899880" y="1793880"/>
            <a:ext cx="125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2020/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Arial"/>
                <a:ea typeface="Arial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је глав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нхибиторн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медијатор у мозг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инхибише и пресинаптичку и постсинаптичк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мисиј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, која се у телесним течностима налаз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 облику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β-аминобутирата, настаје декарбоксилациј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а  под дејством ензи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карбоксил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 с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лише трансаминацијом до сукцинил-семиладехида под дејством ензи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-трансаминаз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-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, а потом до сукцината у циклусу лимунск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иселин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 сада су откривена три тип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 рецепт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GAB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 с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ироко распрострањени у ЦНС, док се GABA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 кичмењака налазе скоро искључиво 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режњач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Arial"/>
                <a:ea typeface="Arial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 су јонотропни рецептори који омогућавају улаза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неуроне, 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В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 су метаботропн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-повезани рецептори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PCR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повећавају проводљивост К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канала, а инхибишу аденилил циклазу и улазак С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1316160" y="3097080"/>
            <a:ext cx="65116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1859c"/>
                </a:solidFill>
                <a:latin typeface="Arial"/>
                <a:ea typeface="Arial"/>
              </a:rPr>
              <a:t>GAB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већање улас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изласка К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ао и смањење уласка С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зазива хиперполаризацију неурона, што узрокује брзи инхибиторни постсинаптички одгово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SP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Бензодиазепини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(диазепам) повећавају проводљивост з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Cl</a:t>
            </a:r>
            <a:r>
              <a:rPr b="0" lang="en-US" sz="21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–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активацијом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 и имају антианксиозно дејство, а такође су ефикасни миорелаксанси, антиконвулзиви и седативи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Барбитурати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(фенобарбитал) ефикасни су антиконвулзиви јер повећавају инхибицију посредован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има и смањују ексцитацију посредовану АМРА рецепторима. Анестетичка својства барбитурата (тиопентанал, фенобарбитал и метокситал) су последица њиховог агонистичког деловања на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CS" sz="21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А</a:t>
            </a:r>
            <a:r>
              <a:rPr b="0" lang="sr-CS" sz="21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е, као и неуромодулаторног деловања на трансмисију 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Arial"/>
              </a:rPr>
              <a:t>GABA.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722160" y="5877000"/>
            <a:ext cx="7699680" cy="9270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3" descr=""/>
          <p:cNvPicPr/>
          <p:nvPr/>
        </p:nvPicPr>
        <p:blipFill>
          <a:blip r:embed="rId2"/>
          <a:stretch/>
        </p:blipFill>
        <p:spPr>
          <a:xfrm>
            <a:off x="720720" y="5300640"/>
            <a:ext cx="7704000" cy="6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је трансмитер у неуромишићној спојници, аутономним ганглијама, као и у спојевима постганглијских парасимпатичких нерава и циљних органа и спојевима неких симпатичких постганглијских нерава и циљних ткив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налази у малим, јасно ограниченим везикулама које су концентрисане у завршец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ергичк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синтетише у нервним завршецима од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-Со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под дејством енз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 ацетилтрансферазе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hAT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Холин који учествује у синтези ацетилхолина транспортује се из екстрацелуларног простора у нервни завршетак прек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1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-зависног холинског транспортер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СНТ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ослобађа када нервни импулс иницира улазак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а</a:t>
            </a:r>
            <a:r>
              <a:rPr b="1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у нервни завршетак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се из синптичке пукотине уклања хидролизом до холина и ацетата под дејством ензи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естераз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в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а холинестераз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остоји више различитих холинестераза у организму које нису специфичне за ацетилхолин, а једна од њих, која се налази у плазми, назива се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псеудохолинестераз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1"/>
          <a:stretch/>
        </p:blipFill>
        <p:spPr>
          <a:xfrm>
            <a:off x="3348000" y="3743280"/>
            <a:ext cx="5651640" cy="3025800"/>
          </a:xfrm>
          <a:prstGeom prst="rect">
            <a:avLst/>
          </a:prstGeom>
          <a:ln w="0">
            <a:noFill/>
          </a:ln>
        </p:spPr>
      </p:pic>
      <p:sp>
        <p:nvSpPr>
          <p:cNvPr id="87" name="TextBox 6"/>
          <p:cNvSpPr/>
          <p:nvPr/>
        </p:nvSpPr>
        <p:spPr>
          <a:xfrm>
            <a:off x="0" y="3789360"/>
            <a:ext cx="341964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Тродимензионални модел никотинског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цетилхолин-зависног јонског канала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се два молекула ацетилхолина вежу за део α-субјединице на површини ћелијске мембране, отвара се део канала који се налази у липидном двослоју, па K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и N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пролазе кроз отворени канал према свом  електрохемијском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ијент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с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е према својим фармаколошким карактеристикама деле у две основне групе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ускаринс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и пет различитих типова мускаринских холинергичких рецептора (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-М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и мускарински рецептори се убрајају у метаботропне рецепторе, који су преко G-протеина повезани са аденилил-циклазом, К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налима и/или фосфолипазом 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и рецептори се према својој локализацији додатно деле на: рецепторе који се налазе у неуромишићној спојници (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 и рецепторе који се налазе у ЦНС и аутономним ганглијама (N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котински ацетилхолински рецептори припадају суперфамилији лиганд-зависних јонских канала (јонотропни рецептори)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"/>
          <p:cNvPicPr/>
          <p:nvPr/>
        </p:nvPicPr>
        <p:blipFill>
          <a:blip r:embed="rId1"/>
          <a:stretch/>
        </p:blipFill>
        <p:spPr>
          <a:xfrm>
            <a:off x="738360" y="4221000"/>
            <a:ext cx="7684920" cy="18543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Ацетилхо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125280" y="981000"/>
            <a:ext cx="889344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ваки никотински холинергички рецептор се састоји од пет субјединица које формирају централни канал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Значајну карактеристику никотинских холинергичких рецептора на неуронима представља велика пермеабилност за Ca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720720" y="3645000"/>
            <a:ext cx="7704000" cy="61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је хемијски трансмитер који се налази у већини симпатичких постганглијских нервних завршетак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 и његов метилирани дериват –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а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секретују се и у кори надбубрега, али адреналин нема функцију трансмитера на постганглијским нервним завршецим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и који секретују норадреналин називају се прецизн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ергичк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мада их често називају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ергичким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еуроним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Главн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атехоламин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у људском организму (норадреналин, адреналин и допамин) настају хидроксилацијом и декарбоксилацијом амнокиселине тирози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 цитоплазми ових неурона тирозин се претвара 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ихидроксифенилалан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DOPA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. Под дејство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ирозинхидроксил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а затим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DOPA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екарбоксил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DOPA се претвара у допамин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восинтетисани допамин се транспортује у везикуле, где се претвара у норадреналин уз помоћ ензима допамин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β-хидроксил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DBH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У неким неуронима ЦНС и сржи надбубрега у цитоплазми се налази и ензим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фенилетаноламин-N-метилтрансфераз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PNMT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, који катализује претварање норадреналина у адреналин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Преузимање у пресинаптички неурон представља главни механизам за прекидање деловања норадренали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алин и норадреналин се под дејством ензима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оноамин оксидаз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МАО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катехол-О-метилтрансфераз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ОМТ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), у процесима оксидације и метилације, метаболишу до молекула који немају биолошку активност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 адреналин и норадреналин остварују своје ефекте делујући преко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β-адренергичких рецептор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 има већи афинитет за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е, док адреналин има већи афинитет за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е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и се убрајају у метаботропн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PCR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 и имају више подврста: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B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C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β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 – β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ећина α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 је преко G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протеина повезана са фосфолипазом С, што изазива стварање IP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и DAG и мобилизацију интрацелуларних резерви Са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односно активацију протеин киназе С, што за последицу има активацију постсинаптичког неуро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дренорецептори активирају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хибиторне протеине, што инхибише аденилил циклазу и смањује концентрацију цикличног АМ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Неуротрансмитери и неуромодулатори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19040"/>
            <a:ext cx="1362240" cy="18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0600" y="274680"/>
            <a:ext cx="83628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Моноамини: норадреналин и адренали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5280" y="83664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адренорецептори активирају улазак јона кроз К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канале посредством G-протеин-повезаних рецептора, што изазива хиперполаризацију мембране и инхибише Ca</a:t>
            </a:r>
            <a:r>
              <a:rPr b="0" lang="ru-RU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канале на неуроним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β-адренорецептори активирају G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ѕ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стимулаторне протеине, што активира аденилил циклазу и повећава концентрацију цикличног АМР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720720" y="4719600"/>
            <a:ext cx="7702560" cy="149544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3" descr=""/>
          <p:cNvPicPr/>
          <p:nvPr/>
        </p:nvPicPr>
        <p:blipFill>
          <a:blip r:embed="rId2"/>
          <a:stretch/>
        </p:blipFill>
        <p:spPr>
          <a:xfrm>
            <a:off x="720720" y="4114800"/>
            <a:ext cx="770400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 се називају и неуропептид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1859c"/>
                </a:solidFill>
                <a:latin typeface="Arial"/>
                <a:ea typeface="Arial"/>
              </a:rPr>
              <a:t>Супстанца Р</a:t>
            </a:r>
            <a:r>
              <a:rPr b="0" lang="sr-CS" sz="2800" spc="-1" strike="noStrike">
                <a:solidFill>
                  <a:srgbClr val="31859c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рипада породици тахикинина, као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урокинин 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еурокинин В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врсте неурокининских рецептора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-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</a:t>
            </a:r>
            <a:r>
              <a:rPr b="0" lang="sr-C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), који припадају групи метаботропних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PCR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а супстанца Р је лиганд који се најчешће везује з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К1 рецепторе у ЦНС и узрокује повећано стварање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1859c"/>
                </a:solidFill>
                <a:latin typeface="Arial"/>
                <a:ea typeface="Arial"/>
              </a:rPr>
              <a:t>Опиоидни пептиди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метенкефал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леуенкефалин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, који се називају и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енкефалини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се везују за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опиоидн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пиоидни пептиди имају више различитих прекурсор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енкефал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опиомеланокорт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динорфин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класе опиоидних рецептор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са својим различитим подтипов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ирање μ-опиоидних рецептора повећава проводљивост за K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ри чему долази до хиперполаризације, док активирање κ и δ-рецептора узрокује затварање Са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на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упстанце које постоје у мозгу и понашају се као трансмитери су: соматостатин, вазопресин, окситоцин, брадикинин, ангиотензин II, ендотелин, вазоактивни интестинални пептид (VIP), холецистокинин, гастрин, неуротензин, галанин, гастрин-ослобађајући пептид, неуропепти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Аутономни нервни систе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92120"/>
            <a:ext cx="136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Аутономни 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 (АНС) је део нервног система који одржава хомеостаз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 има два анатомски одвојена дел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симпати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ервни систе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разлику од соматомоторног нервног система, периферни делови АНС су састављени од два неурона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ганглијс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Ћелијска тела преганглијских нервних влакана се налазе у интермедиолатералним стубовима кичмене мождине и моторним једрима неких кранијалних нера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сони су танка, мијелинизована и спора влакна типа B, док су аксони постганглијских неурона су углавном немијелинизована влакна типа C и завршавају се у висцералним ефекторним органи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04a7b"/>
                </a:solidFill>
                <a:latin typeface="Arial"/>
                <a:ea typeface="Arial"/>
              </a:rPr>
              <a:t>Аутономни нервни систе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На преганглијским влакнима аутономног нервног система ослобађа с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, а п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остганглијски парасимпатички неурони такође ослобађај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, а постганглијски симпатички неурони ослобађај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4213080" y="2887560"/>
            <a:ext cx="4896000" cy="39261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144360" y="2955960"/>
            <a:ext cx="421164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ређење периферне организације и ослобођених трансмитера соматомоторног и аутономног нервног система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У соматомоторном нервном систему, неурон који напушта кичмену мождину се пружа директно д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фекторног органа. У аутономном нервном систему, постоји синапса између неурона који напушта кичмену мождину и ефекторног органа (изузев неурона који инервишу срж надбубрежне жлезде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азите да сви неурони који напуштају централни нервни систем ослобађају ацетилхолин, допамин, адреналин и норадреналин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5280" y="274680"/>
            <a:ext cx="8893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и неурони симпатичког нервног система се налазе у интерме диолатералним стубовима кичмене мождине, од првог торакалног до трећег или четвртог лумбалног сегмента, па се често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раколумбалн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л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АН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сони симпатичких преганглијских неурона напуштају кичмену мождину на нивоу на коме се налазе тела ових ћелија, и излазе кроз предње коренове заједно са аксонима α- и γ-мотонеурона, а затим се одвајају од предњих коренова прек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л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муникацијских гр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пружају д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их паравертебралних ганглиј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англије и аксони заједно формирај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анац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оји се пружа са обе стране кичменог стуб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5280" y="274680"/>
            <a:ext cx="889344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796000" y="981000"/>
            <a:ext cx="3222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Пружање симпатичких преганглијских и постганглијских нервних влака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На слици је представљен торакални део кичмене мождине, паравертебралне и превертебралне ганглије. Преганглијски неурони су обојени црвено, а постганглијски тамноплаво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144360" y="1197000"/>
            <a:ext cx="569448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012000" y="981000"/>
            <a:ext cx="300672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Организациј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мпатичк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лево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парасимпатичк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(десно)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ервног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истем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Холинергички нерви су представљени црвено, а норадренергички плаво. Преганглијски нерви су представљени пуним, а постанглијски испрекиданим линијам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144360" y="46080"/>
            <a:ext cx="5711760" cy="67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Пара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125280" y="1079640"/>
            <a:ext cx="8893440" cy="558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реганглијски неурони парасимпатичког дела АНС се налазе у неколико једара кранијалних нерава (III, VII, IX, X) и у интермедиолатералним стубовима сакралног дела кичмене мождине, због чега се овај део назив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краниосакрал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де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АНС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стфал-Едингеров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јед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окуломоторног нерва пројектују се до цилијарног ганглиона одакле инервишу сфинктер дужице и цилијарни мишић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ни из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орњег саливаторног јед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фацијалног нерва се пројектују д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фенопалатиналног гангли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акле инервишу сузне жлезде, назалну и палатиналну мукозу, и д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убмандибуларног ганглион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одакле инервишу субмандибуларне и субмаксималне жлезд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а 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ве фазе хемијске трансмисије подразумевају синтез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трансмите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најчешће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аптич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кулам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терминалних нервних завршетак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кон тога след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слобађ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хемијске супстанце 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инаптич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котин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као одговор на нервне импулсе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кретовани неуротрансмитер затим може да делује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мештене на мембран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синаптичк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фекторно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рган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мишић или жлезда) (или чак самог пресинаптичког нервног завршетка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ледње фазе у процесу трансмисије представљају прекидање деловања неуротрансмитера и обухватају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ифузиј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неуротрансмитера из синаптичке пукотине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но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еузим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 нервни завршетак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ензимск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азградњу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Ћелијска тела у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доњем саливаторном једру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глософарингеалног нерва пројектују се до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отичког ганглио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одакле инервишу паротидну пљувачну жлезду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Вагусн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влакна из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nucle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mbiguu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инервишу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SA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Arial"/>
              </a:rPr>
              <a:t>AV 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чвор срца, а неурони из </a:t>
            </a:r>
            <a:r>
              <a:rPr b="1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задњег моторног једра</a:t>
            </a:r>
            <a:r>
              <a:rPr b="0" lang="sr-CS" sz="2600" spc="-1" strike="noStrike">
                <a:solidFill>
                  <a:srgbClr val="000000"/>
                </a:solidFill>
                <a:latin typeface="Arial"/>
                <a:ea typeface="Arial"/>
              </a:rPr>
              <a:t> вагуса инервишу једњак, душник, плућа и гастроинтестинални трак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арасимпатичка сакрална влакна (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пелвичк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нерв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) инервишу органе у пелвису преко грана у саставу другог до четвртог сакралног спиналног нерв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Парасимпатички део аутономног нервног систем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04a7b"/>
                </a:solidFill>
                <a:latin typeface="Arial"/>
                <a:ea typeface="Arial"/>
              </a:rPr>
              <a:t>Трансмисија у аутономном нервном систем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Главни неуротрансмитери у аутономном нервном систему су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Холинергичк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неурони аутономног нервног система (ослобађај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 су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1) преганглијски неурони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2) сви парасимпатички постганглијски неурони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3) симпатички постганглијски неурони који инервишу жлезде,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4) симпатички постганглијски неурони који се завршавају на крвним судовима у скелетним мишићима и изазивају вазодилатацију (симпатички вазодилататорни нерви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Остали симпатички постганглијски неурони с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ергичк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 (ослобађај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)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  <a:ea typeface="Arial"/>
              </a:rPr>
              <a:t>Срж надбубрежне жлезде је у ствари симпатички ганглион у коме су постганглијске ћелије изгубиле своје аксоне и секретују адреналин и норадреналин директно у циркулацију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Одговори постганглијских неурона на стимулацију преганглијских неурона ацетилхолином подразумевају брзу деполаризацију –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брзи ексцитаторни постсинаптички потенцијал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ЕПС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), који генерише акционе потенцијале, 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пролонгирани ексцитаторни постсинаптички потенцијал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спори ЕПС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Иницијална деполаризација настаје деловањем ацетилхолина на N</a:t>
            </a:r>
            <a:r>
              <a:rPr b="0" lang="ru-RU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ори ЕПСП настају деловањем ацетилхолина на мускаринске рецепторе у мембрани постганглијског неурон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и М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се налазе у срцу и њихова стимулација изазива отварање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канала и инхибицију аденилил циклазе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и М</a:t>
            </a:r>
            <a:r>
              <a:rPr b="0" lang="sr-C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се налазе у глатким мишићима и жлездама, и њихова стимулација изазива формирањ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23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DAG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и повећања концентрације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у ћелији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Холинергичка неуро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 ослобођен из симпатичких нервних завршетака се везује за адренергичке рецeптор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вање агонисте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, активир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q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везани протеин што изазива формирањ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G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повећања ниво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ћел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вање агонисте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 узрокује дисоцијацију инхибитор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ротеина који инхибицијом аденилил циклазе изазива смањење концентрације цикличног аденозин монофосфата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у ћел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Везивање агониста з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β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 узрокује активацију стимулаторног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ротеина који активира аденилил циклазу и повећава концентрациј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ћелиј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Норадренергичка неуро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утономни нервни систем регулише и координира многе физиолошке функције као што су проток крви, крвни притисак, срчану фреквенцију, проток ваздуха у дисајним путевима, мотилитет гастроинтестиналног тракта, контракције мокраћне бешике, жлездану секрецију, телесну температуру и сексуалне функ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 разлику од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отонеурона, где ослобађање ацетилхолина увек изазива контракцију, ослобађање ацетилхолина у глатким мишићима неких органа изазива контракцију (зид гастроинтестиналног тракта), а у другим релаксацију (сфинктери у гастроинтестиналном тракту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рце је још један пример органа са дуплом инервацијом, стимулација симпатичких влакана повећава срчану фреквенцију, док је стимулација парасимпатичких влакана смању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Одговори ефекторних орг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7640" y="1425600"/>
            <a:ext cx="9108720" cy="5099040"/>
          </a:xfrm>
          <a:prstGeom prst="rect">
            <a:avLst/>
          </a:prstGeom>
          <a:ln w="0">
            <a:noFill/>
          </a:ln>
        </p:spPr>
      </p:pic>
      <p:sp>
        <p:nvSpPr>
          <p:cNvPr id="136" name="TextBox 4"/>
          <p:cNvSpPr/>
          <p:nvPr/>
        </p:nvSpPr>
        <p:spPr>
          <a:xfrm>
            <a:off x="0" y="6922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говори неких ефекторских органа на активност аутономног нервног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-17640" y="2206800"/>
            <a:ext cx="9179280" cy="41749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" descr=""/>
          <p:cNvPicPr/>
          <p:nvPr/>
        </p:nvPicPr>
        <p:blipFill>
          <a:blip r:embed="rId2"/>
          <a:stretch/>
        </p:blipFill>
        <p:spPr>
          <a:xfrm>
            <a:off x="-36360" y="1590840"/>
            <a:ext cx="9180360" cy="6858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5"/>
          <p:cNvSpPr/>
          <p:nvPr/>
        </p:nvSpPr>
        <p:spPr>
          <a:xfrm>
            <a:off x="0" y="838080"/>
            <a:ext cx="860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дговори неких ефекторских органа на активност аутономног нервног систе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Електрична активност мозга, спавање и циркадијални ритам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92120"/>
            <a:ext cx="136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125280" y="836640"/>
            <a:ext cx="8893440" cy="60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Метода регистровања електричних потенцијала мозга помоћу електрода постављених на поглавину се назива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енцефалографиј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Е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лектрокортикогра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KоГ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) подразумева регистровање електричне активности мозга помоћу електрода које се налазе на страни кортекса окренутој ка можданим овојницам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ЕЕГ који се региструје са поглавине више је мера збира дендритских постсинаптичких потенцијала него акционих потенцијал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Електроенцефалограф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125280" y="836280"/>
            <a:ext cx="889344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д одраслих особа које су будне и мирују, размишљају са затвореним очима, најзаступљенија компонента ЕЕГ-а који се региструје са поглавине је прилично правилан образац таласа фреквенце 8−1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z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амплитуде 50−100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кој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е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лфа ри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да се пажња усмери на нешто, алфа ритам замењује неправилна, нисковолтажна активност, фреквенце 13−30 Hz, која се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ета рита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Алфа, бета и гама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3"/>
          <p:cNvSpPr/>
          <p:nvPr/>
        </p:nvSpPr>
        <p:spPr>
          <a:xfrm>
            <a:off x="71280" y="400536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3538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ама осцилациј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фреквенце 30–8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z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бично се виђају код  особа које су будне и чија је пажња фокусирана на неш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4529160" y="3772080"/>
            <a:ext cx="4500720" cy="29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Хемијска трансмисиј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ве наведене процесе, као и догађаје у синаптичком неурону, регулишу бројни физиолошки фактори који се могу мењати применом лекова, чиме се отвара могућност да се применом лекова утиче на регулацију низа процеса, као што су: соматска и висцеларна моторна активност, емоције, понашање и остале сложене мождане функциј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ке хемијске супстанце које ослобађају неурони имају минималне или уопште немају директне ефекте, али могу да мењају дејства неуротрансмитера и називају с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уромодула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 главне класе хемијских супстанци које могу бити неуротрансмитери или неуромодулатори: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мале молекулске мас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велике молекулске мас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е врсте спавања: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eye mo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ње 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n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л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оталас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спавањ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REM спавање је названо по карактеристичним покретима очију током ове фазе спавањ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NREM спавање се дели на четири фаз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1) фаза 1, док особа заспива на ЕЕГ-у се региструју нисковолтажни таласи различитих фреквенција. У овој раној фази спороталасног спавања може да се вид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тета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ритам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(4−7 Hz)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2) фазу 2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REM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авања карактеришу синусоидални таласи који се називају „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вретен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спавањ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” (12−14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Hz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повремени вискоковолтажн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бифазични К-комплекси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3) фаза 3, ЕЕГ-ом доминира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делта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ритам високе амплитуде;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4) фаза 4, постоји максимално успоравање ритма са великим таласима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Фазе сп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оре таласе који се региструју на ЕЕГ-у током спавања наизменично замењују брзи, нисковолтажни таласи, слични таласима који се региструју током буђења, узбуђења и фазе 1 спавања, због чега се ова фаза назив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радоксал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павањ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оком парадоксалног спавања постоје брзи, кружни покрети очију, по чему је ова фаза спавања добила назив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–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apid eye mov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Фазе спавањ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1"/>
          <a:stretch/>
        </p:blipFill>
        <p:spPr>
          <a:xfrm>
            <a:off x="144360" y="4076640"/>
            <a:ext cx="8855280" cy="207000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/>
          <p:cNvSpPr/>
          <p:nvPr/>
        </p:nvSpPr>
        <p:spPr>
          <a:xfrm>
            <a:off x="0" y="6237360"/>
            <a:ext cx="89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ЕГ и мишићна активност током различитих фаза циклуса будност–спавањ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ећина ћелија усклађује своју функцију са дневно-ноћним циклусом светлости спољашње средин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вај процес усклађивања у већини случајева зависи од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супрахијазматских једар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хипоталамуса која се налазе обострано изнад оптичке хијазм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Ова једра примају информације о промени дневно-ноћног циклуса посредством специјалног нервног пута који чин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ретинохипоталамичк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влакн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Циркадијални ритам спавања и будности састоји се у просеку од 6–8 часова спавања и 16–18 часова будности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Поред наведених структура у регулацији спавања учествује и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епифиза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 која секретује </a:t>
            </a:r>
            <a:r>
              <a:rPr b="1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мелатонин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Циркадијални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485640" y="981000"/>
            <a:ext cx="8172720" cy="5823000"/>
          </a:xfrm>
          <a:prstGeom prst="rect">
            <a:avLst/>
          </a:prstGeom>
          <a:ln w="0">
            <a:noFill/>
          </a:ln>
        </p:spPr>
      </p:pic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Циркадијални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тонин се синтетише из серотонина путем N-ацетилације и О-метилације у пинеалоцитима, и секретује се у циркулацију и цереброспиналну течност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неуронима супрахијазматских једара постоје две врст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латонинск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Т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и обе врсте рецептора су G-протеин-повезани рецептор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МТ1 рецептора инхибише аденилил циклазу и изазива поспаност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МТ2 рецептора стимулише хидролизу фосфоинозитида, што може да буде важно у синхронизацији са циклусом светлост–там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невне промене секреције мелатонина могу да имају улогу у координацији ритма будност–спавање са циклусом светлост–тама, па се синтеза и секреција мелатонина повећавају током ноћи, а смањују током дан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604a7b"/>
                </a:solidFill>
                <a:latin typeface="Arial"/>
                <a:ea typeface="Arial"/>
              </a:rPr>
              <a:t>Циркадијални рита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2060640"/>
            <a:ext cx="9144000" cy="27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54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Picture 3" descr="Logotip Medicinski monohroamtski"/>
          <p:cNvPicPr/>
          <p:nvPr/>
        </p:nvPicPr>
        <p:blipFill>
          <a:blip r:embed="rId1"/>
          <a:stretch/>
        </p:blipFill>
        <p:spPr>
          <a:xfrm>
            <a:off x="3890880" y="492120"/>
            <a:ext cx="1362240" cy="18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Уч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ља прикупљање информација, а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представља задржавање и складиштење тих информациј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 се дели на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мплицит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екларатив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је повезано са будним стањем, или бар са очуваном свешћу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 памћење је повезано са хипокампусом и другим деловима медијалних темпоралних режњева у којима се памћење чув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Имплицитн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или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недекларативна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меморија не укључује свесност и обично не укључује обраду у хипокампусу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 txBox="1"/>
          <p:nvPr/>
        </p:nvSpPr>
        <p:spPr>
          <a:xfrm>
            <a:off x="125280" y="47592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 памћење се односи на чињенице о људима, местима и стварима и дели се на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семантичк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за чињенице (на пример речи, правила, језик) и 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епизодн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за догађаје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Имплицитно памћење је важно за рефлексне моторне или перцептивне вештине и дели се у четири типа: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  <a:ea typeface="Arial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1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ајминг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, фацилитација препознавања речи или објеката на основу њихове претходне изложености и зависи од неокортекса;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2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оцедурал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памћење обухвата вештине и навике које, једном усвојене, постају несвесне и аутоматске (овај тип памћења се процесуира у стријатуму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125280" y="836280"/>
            <a:ext cx="889344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3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асоцијати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чење се односи на класично или оперантно условљавање у коме се учи о односу између два стимулуса (зависи од функција амигдала у емоционалном одговору и церебелума у моторном одговору)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  4)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еасоцијатив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учење укључује хабитуацију и сензитизацију и зависи од различитих рефлексних путев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Експлицитно памћење и многи облици имплицитног памћења могу се класификовати као: (1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краткороч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, чије се трајање мери секундама или сатима, при чему обрада у хипокампусу и другим деловима мозга не изазива дуготрајне промене на синапсама, и (2)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дугорочно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памћење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Arial"/>
              </a:rPr>
              <a:t> које траје годинама, некада и читавог живота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604a7b"/>
                </a:solidFill>
                <a:latin typeface="Arial"/>
                <a:ea typeface="Arial"/>
              </a:rPr>
              <a:t>Памћење и учењ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Picture 2" descr=""/>
          <p:cNvPicPr/>
          <p:nvPr/>
        </p:nvPicPr>
        <p:blipFill>
          <a:blip r:embed="rId1"/>
          <a:stretch/>
        </p:blipFill>
        <p:spPr>
          <a:xfrm>
            <a:off x="71280" y="1017720"/>
            <a:ext cx="9001440" cy="4066920"/>
          </a:xfrm>
          <a:prstGeom prst="rect">
            <a:avLst/>
          </a:prstGeom>
          <a:ln w="0">
            <a:noFill/>
          </a:ln>
        </p:spPr>
      </p:pic>
      <p:sp>
        <p:nvSpPr>
          <p:cNvPr id="170" name="TextBox 5"/>
          <p:cNvSpPr/>
          <p:nvPr/>
        </p:nvSpPr>
        <p:spPr>
          <a:xfrm>
            <a:off x="295200" y="5157720"/>
            <a:ext cx="852480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Врсте памћења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sr-CS" sz="1700" spc="-1" strike="noStrike">
                <a:solidFill>
                  <a:srgbClr val="000000"/>
                </a:solidFill>
                <a:latin typeface="Arial"/>
              </a:rPr>
              <a:t>Експлицитно</a:t>
            </a:r>
            <a:r>
              <a:rPr b="0" lang="sr-CS" sz="1700" spc="-1" strike="noStrike">
                <a:solidFill>
                  <a:srgbClr val="000000"/>
                </a:solidFill>
                <a:latin typeface="Arial"/>
              </a:rPr>
              <a:t> (декларативно) 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памћење је повезано са свесношћу и зависи од хипокампуса и других делова медијалног темпоралног лобуса мозга за његово задржавање. Она је важна за чињенице о људима, местима и стварима. </a:t>
            </a: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Имплицитно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(недекларативно) памћење не укључуј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свесност и обраду у хипокампусу. Важно је за увежбавање моторних рефлексних и перцептивних вештина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  <a:ea typeface="Arial"/>
              </a:rPr>
              <a:t>Трансмитери мале молекулске масе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  <a:ea typeface="Arial"/>
              </a:rPr>
              <a:t>У трансмитере мале молекулске масе се убрајају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минокиселин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иц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цетилхо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амин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нор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ренал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пам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еротон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и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з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рифисф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     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Т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3851280" y="2287440"/>
            <a:ext cx="5257800" cy="4454640"/>
          </a:xfrm>
          <a:prstGeom prst="rect">
            <a:avLst/>
          </a:prstGeom>
          <a:ln w="0">
            <a:noFill/>
          </a:ln>
        </p:spPr>
      </p:pic>
      <p:sp>
        <p:nvSpPr>
          <p:cNvPr id="61" name="TextBox 4"/>
          <p:cNvSpPr/>
          <p:nvPr/>
        </p:nvSpPr>
        <p:spPr>
          <a:xfrm>
            <a:off x="539640" y="5661000"/>
            <a:ext cx="324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иосинтеза појединих малих неуротрансмитерских молеку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је главни ексцитаторни трансмитер у мозгу и кичменој мождини и сматра се да узрокује 75% ексцитаторне трансмисије у ЦНС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два одвојена пута у синтези глутамат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првог синтетског пута, </a:t>
            </a:r>
            <a:r>
              <a:rPr b="1" lang="el-GR" sz="2400" spc="-1" strike="noStrike">
                <a:solidFill>
                  <a:srgbClr val="000000"/>
                </a:solidFill>
                <a:latin typeface="Arial"/>
                <a:ea typeface="Arial"/>
              </a:rPr>
              <a:t>α-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етоглутарат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који настаје у Кребсовом циклусу, конвертује с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дејством ензим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трансферазе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BA-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Т)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у оквиру другог синтетског пута,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се ослобађа из нервног завршетка у синаптичку пукотину посредством Са</a:t>
            </a:r>
            <a:r>
              <a:rPr b="0" lang="sr-C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зависне егзоцитозе и транспортује помоћу глутаматног носача у гл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j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 ћелије, где се конвертуј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дејством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 синтет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, 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том дифундује натраг у нервни заршетак где се поново хидролизује д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помоћу ензим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ин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25280" y="981000"/>
            <a:ext cx="889344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 делује н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јонотроп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троп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н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стоје три подтипа јонотропних глутаматних рецептора, и сваки од њих је добио назив по свом релативно специфичном агонисти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AMPA 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α-амино-3-хидрокси-5-метилизоксазол-4-пропионат)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аинатни 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каинат је киселина изолована из морске трав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NMDA рецептор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(N-метил-D-аспартат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10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AMP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каинатн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јонотропних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  <a:ea typeface="Arial"/>
              </a:rPr>
              <a:t> глутаматних рецептора омогућава улазак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у ћелију и излазак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K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из ћелије, док активација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NMDA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рецептора омогућава улазак релативно велике количин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Ca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 уз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  <a:ea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  <a:ea typeface="Arial"/>
              </a:rPr>
              <a:t>, што представља брзе ексцитаторне постсинаптичке одговоре (ЕРЅР)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5280" y="981000"/>
            <a:ext cx="47340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ктивациј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етаботропно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глутаматних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рецептор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Glu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оводи или до повећања интрацелуларне концентрациј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нозитол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1,4,5–трифосфат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P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диацилглицерол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или до смањења интрацелуларне концентрације цикличног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аденози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монофосфата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сАМР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  <a:ea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о сада је откривено осам подтипова mGlu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4211640" y="476280"/>
            <a:ext cx="5432400" cy="502272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4427640" y="5516640"/>
            <a:ext cx="47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Биохемијске промене у глутаматергичкој синап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31859c"/>
                </a:solidFill>
                <a:latin typeface="Arial"/>
                <a:ea typeface="Arial"/>
              </a:rPr>
              <a:t>Глутама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25280" y="3789360"/>
            <a:ext cx="8893440" cy="30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линичка примена лекова који утичу на трансмисију глутаматних рецептора још увек је неразвијена због чињенице да је улога глутамата као неуротрансмитера откривена знатно касније у односу на већину осталих неуротрансмитера мале молекулске масе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Једно од подручја развоја лекова је интраспинална или екстрадурална примена антагониста NMDA рецептора у терапији хроничног бол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73280" y="692280"/>
            <a:ext cx="7597440" cy="31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07T09:04:36Z</dcterms:created>
  <dc:creator>Vlada Jakovljevic</dc:creator>
  <dc:description/>
  <dc:language>en-US</dc:language>
  <cp:lastModifiedBy>Jovana Joksimovic</cp:lastModifiedBy>
  <dcterms:modified xsi:type="dcterms:W3CDTF">2021-01-31T18:06:26Z</dcterms:modified>
  <cp:revision>67</cp:revision>
  <dc:subject/>
  <dc:title>Општи принципи физиологије човека Преглед ћелијске физиологије Транспорт кроз ћелијску мембрану Међућелијска комуникација</dc:title>
</cp:coreProperties>
</file>