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72F7-60CA-40CB-BA09-914E714A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1519-36AC-415C-8D44-76D55597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B489-F0EC-4CA3-A640-A7BF2D4AA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37EF-88B6-4348-9CA5-D968A961B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547A-4DC5-48ED-9C16-638B53750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C281-8738-4310-BB56-8E4C7DB17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FEBE-355A-431D-AABD-D716B7C28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3D0D-8DC8-49E7-9848-9EF146D6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778F2-EE37-4F30-8C7F-8023EA994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A42F-51CA-403F-96B0-EBA7888B5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E59BF-7A72-41CD-9120-F40579F30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EDBF-182B-4A0C-800A-1EA1F326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DF753-F1CB-4468-84FE-D45484E5CB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2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br>
              <a:rPr sz="4200"/>
            </a:br>
            <a:r>
              <a:rPr b="0" lang="sr-CS" sz="4200" spc="-1" strike="noStrike">
                <a:solidFill>
                  <a:srgbClr val="000000"/>
                </a:solidFill>
                <a:latin typeface="Arial"/>
                <a:ea typeface="Arial"/>
              </a:rPr>
              <a:t>Органофосфати: пестициди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3" descr="Logotip Medicinski monohroamtski"/>
          <p:cNvPicPr/>
          <p:nvPr/>
        </p:nvPicPr>
        <p:blipFill>
          <a:blip r:embed="rId1"/>
          <a:stretch/>
        </p:blipFill>
        <p:spPr>
          <a:xfrm>
            <a:off x="3890880" y="115920"/>
            <a:ext cx="1362240" cy="18572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1224000" y="479736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Интегрисане академске студије фарм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Calibri"/>
                <a:ea typeface="Arial"/>
              </a:rPr>
              <a:t>Основи физиологије чове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Семин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Органофосфати: пестици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ани знаци тровања су последица ексцесивне активације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ускаринских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а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и укључују миозу, саливацију, знојење, бронхоконстрикцију, повраћање и дијареј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Главни знаци тровања су когнитивни поремећаји, конвулзије, па чак и кома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наци тровања често обухватају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икотинск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ефекте као што је деполаришућа неуромишићна блокад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Органофосфати: пестици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терапији се у великим дозама парентерално примењује антагонист мускаринских рецептора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троп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дмах по деловању отрова могу да се примен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уклеофил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о што ј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лидокс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који цепају везе између органских фосфата и ацетилхолинестераз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о 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иридостигм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да пре деловања отрова, он се може везати за ензим и спречити везивање токсичног агенса, али пошто не пролази кроз крвно-мождану баријеру, његово заштитно деловање је ограничено само на периферне холинергичке синап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Органофосфати: пестици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шави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иридостигм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рбамат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тропи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е може давати профилактички војницима и цивилима када постоји ризик од примене ових отро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нзодиазепи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е могу користити за сузбијање ефеката ових отрова на централни нервни сист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564000" y="4024440"/>
            <a:ext cx="2016000" cy="2789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216000" y="4581360"/>
            <a:ext cx="3060720" cy="2028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5940360" y="4591080"/>
            <a:ext cx="2987640" cy="200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 је неуродегенеративно обољење које настаје услед губитка преганглијских неурона аутономног нервног система у кичменој мождини и можданом стаблу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Услед тога настају тешкоће у регулацији телесне температуре, баланса воде и електролита и контроли крвног притиск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Такође постоје и дефицити у функционисању церебелума, базалних ганглија, доњих оливарних једара и пирамидалног трак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С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дефинише као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о спорадична, прогресивна болест која се јавља у одраслом добу, а карактерише се дисфункцијама аутономног нервног система, паркинсонизмом, церебеларном атаксијом уз различите комбинације ових поремећај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Посебан облик овог обољења у којем доминира дисфункција аутономног нервног система, описан је као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Шај-Драгеров синдр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арактеристични патохистолошки знаци МСА су цитоплазматске и једарне инклузије олигодендроцита у централним моторним областима и централним областима аутономног нервног систе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300720" y="3805200"/>
            <a:ext cx="2735280" cy="26971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0" y="3795840"/>
            <a:ext cx="6264360" cy="2736720"/>
          </a:xfrm>
          <a:prstGeom prst="rect">
            <a:avLst/>
          </a:prstGeom>
          <a:ln w="0">
            <a:noFill/>
          </a:ln>
        </p:spPr>
      </p:pic>
      <p:sp>
        <p:nvSpPr>
          <p:cNvPr id="52" name="TextBox 5"/>
          <p:cNvSpPr/>
          <p:nvPr/>
        </p:nvSpPr>
        <p:spPr>
          <a:xfrm>
            <a:off x="163440" y="6531120"/>
            <a:ext cx="5968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Arial Narrow"/>
              </a:rPr>
              <a:t>Рендгенски снимак мозга здраве особе и особе оболеле од МС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1081440" y="6264360"/>
            <a:ext cx="965520" cy="261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ffffff"/>
                </a:solidFill>
                <a:latin typeface="Arial Narrow"/>
              </a:rPr>
              <a:t>Здрава особ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831480" y="6237360"/>
            <a:ext cx="1526400" cy="2613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100" spc="-1" strike="noStrike">
                <a:solidFill>
                  <a:srgbClr val="ffffff"/>
                </a:solidFill>
                <a:latin typeface="Arial Narrow"/>
              </a:rPr>
              <a:t>Особа оболела од МС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9"/>
          <p:cNvSpPr/>
          <p:nvPr/>
        </p:nvSpPr>
        <p:spPr>
          <a:xfrm>
            <a:off x="593640" y="3949560"/>
            <a:ext cx="871200" cy="200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700" spc="-1" strike="noStrike">
                <a:solidFill>
                  <a:srgbClr val="ffffff"/>
                </a:solidFill>
                <a:latin typeface="Arial Narrow"/>
              </a:rPr>
              <a:t>Рендгенски снимак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0"/>
          <p:cNvSpPr/>
          <p:nvPr/>
        </p:nvSpPr>
        <p:spPr>
          <a:xfrm>
            <a:off x="3545640" y="4005360"/>
            <a:ext cx="871200" cy="20052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700" spc="-1" strike="noStrike">
                <a:solidFill>
                  <a:srgbClr val="ffffff"/>
                </a:solidFill>
                <a:latin typeface="Arial Narrow"/>
              </a:rPr>
              <a:t>Рендгенски снимак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1"/>
          <p:cNvSpPr/>
          <p:nvPr/>
        </p:nvSpPr>
        <p:spPr>
          <a:xfrm>
            <a:off x="6264360" y="6531120"/>
            <a:ext cx="28447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Arial Narrow"/>
              </a:rPr>
              <a:t>Патохистолошки знаци МС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зрок настанка МСА није јасан, али постоје подаци који указују на неуроинфламаторне механизме који активирају микроглију и продукцију токсичних цитокина у мозгу ових пацијенат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Базални нивои симпатичке активности, као и нивои норадреналина у плазми ових пацијената су нормални, али се не повећавају приликом устајања или неког другог стимулуса, што може да изазове озбиљну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ортостатску хипотензиј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У МСА се постоји и дисфункција парасимпатикуса која узрокује уринарне и сексуалне поремећаје, а први знак болести често је еректилна дисфункциј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Болест се најчешће дијагностикује између 50. и 70. године живота, а јавља се чешће код мушкараца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Јављају се и аномалије у функционисању барорецептора и контроли респираторне функциј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Иако се поремећаји у функционисању аутономног нервног система јављају као најчешћи први симптоми, 75% пацијената који болују од МСА такође имају и поремећај моторик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Мултипла системска атрофиј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Не постоји специфична терапија МСА, али се различити терапијски поступци користе у третману симптома и знакова боле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Кортикостероиди се често примењују у покушају да се спречи губитак воде и соли и одржи крвни притисак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Код неких појединаца који имају симптоме сличне симптомима Паркинсонове болести примењују се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леводопа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levodop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карбидопа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i="1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carbidopa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Испитује се и интравенска примена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имуноглобулин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ради спречавања неуроинфламаторних процес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Органофосфати: пестици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Светска здравствена организација је објавила податак да се код 1–3% радника у пољопривреди јавља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акутно тровање пестицидим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34920" y="3451320"/>
            <a:ext cx="2857680" cy="28573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2297160" y="3500280"/>
            <a:ext cx="1116000" cy="27910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"/>
          <p:cNvPicPr/>
          <p:nvPr/>
        </p:nvPicPr>
        <p:blipFill>
          <a:blip r:embed="rId3"/>
          <a:stretch/>
        </p:blipFill>
        <p:spPr>
          <a:xfrm>
            <a:off x="3451320" y="3429000"/>
            <a:ext cx="1552320" cy="29527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4"/>
          <a:stretch/>
        </p:blipFill>
        <p:spPr>
          <a:xfrm>
            <a:off x="4896000" y="3141720"/>
            <a:ext cx="2484360" cy="3508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"/>
          <p:cNvPicPr/>
          <p:nvPr/>
        </p:nvPicPr>
        <p:blipFill>
          <a:blip r:embed="rId5"/>
          <a:stretch/>
        </p:blipFill>
        <p:spPr>
          <a:xfrm>
            <a:off x="7380360" y="2546280"/>
            <a:ext cx="1439640" cy="26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Arial"/>
                <a:ea typeface="Arial"/>
              </a:rPr>
              <a:t>Органофосфати: пестици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Као и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органофосфатни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пестициди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(паратион, малатион) и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нервни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гасови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(соман, сарин), који се користе као хемијско оружје, инхибишу ацетилхолинестеразу у периферним и централним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холинергичким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синапсама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, пролонгирајући деловање </a:t>
            </a:r>
            <a:r>
              <a:rPr b="1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а</a:t>
            </a:r>
            <a:r>
              <a:rPr b="0" lang="sr-CS" sz="2500" spc="-1" strike="noStrike">
                <a:solidFill>
                  <a:srgbClr val="000000"/>
                </a:solidFill>
                <a:latin typeface="Arial"/>
                <a:ea typeface="Arial"/>
              </a:rPr>
              <a:t> у тим синапсама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Органофосфатни инхибитори ацетилхолинестеразе се лако апсорбују преко коже, плућа, црева и коњуктива, што их чини веома опасним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Лако се везују за ензим и узрокују фосфорилацију активног места на ензиму.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0T15:27:17Z</dcterms:created>
  <dc:creator>Vlada Jakovljevic</dc:creator>
  <dc:description/>
  <dc:language>en-US</dc:language>
  <cp:lastModifiedBy>Vlada Jakovljevic</cp:lastModifiedBy>
  <dcterms:modified xsi:type="dcterms:W3CDTF">2016-03-11T08:28:03Z</dcterms:modified>
  <cp:revision>8</cp:revision>
  <dc:subject/>
  <dc:title>Мултипла системска атрофија Органофосфати: пестициди </dc:title>
</cp:coreProperties>
</file>